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4EA7-D58B-4F6B-960C-F6AF1C2FA3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8E2E-BF0F-4BAD-BD8B-976FFB58D7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CCCC-B413-4721-B5EA-0A08F69CAB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D19D-273B-4CEA-B8DB-97289B385F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F2E3-5BB1-4AC4-A3C3-010014B193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CB8E-467E-4A18-A072-5691034738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4FC3-759F-4815-8FD2-FE4E461E98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FBAF-8975-43A9-8761-9E30F3A44D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C020-1D87-4437-A52B-28C8801382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FFF0-74D4-464D-AC48-5C3F58E11E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12B2-8774-4178-B3DA-7DF594682E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89CE-639D-4BCA-B618-4F2DB18316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6C42-1CD0-41B2-A94D-DC5449A3AE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93ED-0AF1-4DA6-97CA-CA0F0ECA95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C230-B2BA-4B81-A057-2DDD708CF4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262C-7D5C-40A7-97FA-065BCB2B75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1705-4969-4700-BCEE-0C59463AD2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1377-B62D-4F45-B355-ADEFEC66B9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A2D0-5CD7-4EE1-BB4C-5B80D6427E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orld War I through 1917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10" descr="hsus_ch19_s1_WWIMap"/>
          <p:cNvPicPr/>
          <p:nvPr/>
        </p:nvPicPr>
        <p:blipFill>
          <a:blip r:embed="rId1"/>
          <a:stretch/>
        </p:blipFill>
        <p:spPr>
          <a:xfrm>
            <a:off x="2286000" y="2971800"/>
            <a:ext cx="44956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6"/>
          <p:cNvSpPr/>
          <p:nvPr/>
        </p:nvSpPr>
        <p:spPr>
          <a:xfrm flipH="1" rot="5400000">
            <a:off x="1218960" y="1066320"/>
            <a:ext cx="3809880" cy="5029200"/>
          </a:xfrm>
          <a:prstGeom prst="upArrowCallout">
            <a:avLst>
              <a:gd name="adj1" fmla="val 20845"/>
              <a:gd name="adj2" fmla="val 18875"/>
              <a:gd name="adj3" fmla="val 19666"/>
              <a:gd name="adj4" fmla="val 46907"/>
            </a:avLst>
          </a:prstGeom>
          <a:gradFill rotWithShape="0">
            <a:gsLst>
              <a:gs pos="0">
                <a:srgbClr val="ffc000">
                  <a:alpha val="55294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71785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29"/>
          <p:cNvSpPr/>
          <p:nvPr/>
        </p:nvSpPr>
        <p:spPr>
          <a:xfrm>
            <a:off x="5638680" y="2451240"/>
            <a:ext cx="281952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assassination triggered a chain of events that drew two sets of allies into a bloody confli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38080" y="2003400"/>
            <a:ext cx="350532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On June 28, 1914, Serb nationalists assassinated the heir to the throne of Austria-Hungary, Archduke,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Francis Ferdinan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666720" y="1219320"/>
            <a:ext cx="779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Europe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alliance system caused the conflict to spread quickly, creating two main combata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653080" y="4267080"/>
            <a:ext cx="373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Central Pow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cluded Germany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nd Austria-Hunga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638680" y="2514600"/>
            <a:ext cx="335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Allied Pow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cluded Britain, France, Russia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nd Serbi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0" descr="hsus_ch19_s1_WWIMap"/>
          <p:cNvPicPr/>
          <p:nvPr/>
        </p:nvPicPr>
        <p:blipFill>
          <a:blip r:embed="rId1"/>
          <a:stretch/>
        </p:blipFill>
        <p:spPr>
          <a:xfrm>
            <a:off x="466560" y="2162160"/>
            <a:ext cx="513432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2"/>
          <p:cNvSpPr/>
          <p:nvPr/>
        </p:nvSpPr>
        <p:spPr>
          <a:xfrm>
            <a:off x="457200" y="1600200"/>
            <a:ext cx="40384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Germany invaded Belgiu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, a neutral country, to attack Fran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he German advance was stopped about 30 miles from Pari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war bogged down as both sides dug a long series of trenches, creating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Western Fro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8" descr="3088122_edit"/>
          <p:cNvPicPr/>
          <p:nvPr/>
        </p:nvPicPr>
        <p:blipFill>
          <a:blip r:embed="rId1"/>
          <a:stretch/>
        </p:blipFill>
        <p:spPr>
          <a:xfrm>
            <a:off x="4572000" y="2125800"/>
            <a:ext cx="3886200" cy="30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1"/>
          <p:cNvSpPr/>
          <p:nvPr/>
        </p:nvSpPr>
        <p:spPr>
          <a:xfrm>
            <a:off x="5943600" y="4495680"/>
            <a:ext cx="32004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5867280" y="2652840"/>
            <a:ext cx="2819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Neither side could overcome the other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defenses, an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a stalemate quickly develop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457200" y="11430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era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deadly defensive weapons made attacks difficult and dangerou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37" descr="HSUS_ch19_s1_WeaponsChart"/>
          <p:cNvPicPr/>
          <p:nvPr/>
        </p:nvPicPr>
        <p:blipFill>
          <a:blip r:embed="rId1"/>
          <a:stretch/>
        </p:blipFill>
        <p:spPr>
          <a:xfrm>
            <a:off x="533520" y="2292480"/>
            <a:ext cx="5048280" cy="35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1"/>
          <p:cNvSpPr/>
          <p:nvPr/>
        </p:nvSpPr>
        <p:spPr>
          <a:xfrm>
            <a:off x="533520" y="1600200"/>
            <a:ext cx="3124080" cy="3048120"/>
          </a:xfrm>
          <a:prstGeom prst="rect">
            <a:avLst/>
          </a:prstGeom>
          <a:gradFill rotWithShape="0">
            <a:gsLst>
              <a:gs pos="0">
                <a:srgbClr val="ffc000">
                  <a:alpha val="55294"/>
                </a:srgbClr>
              </a:gs>
              <a:gs pos="100000">
                <a:srgbClr val="e8eae9"/>
              </a:gs>
            </a:gsLst>
            <a:lin ang="13500000"/>
          </a:gradFill>
          <a:ln w="9360">
            <a:solidFill>
              <a:srgbClr val="ccccff"/>
            </a:solidFill>
            <a:miter/>
          </a:ln>
          <a:effectLst>
            <a:outerShdw dist="71785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657600" y="499896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Many Americans favored one side or the othe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85800" y="1981080"/>
            <a:ext cx="3048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s the war dragged on in Europe, President Wilson urged Americans to remain neutr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12"/>
          <p:cNvSpPr/>
          <p:nvPr/>
        </p:nvSpPr>
        <p:spPr>
          <a:xfrm rot="5400000">
            <a:off x="2057400" y="4419360"/>
            <a:ext cx="990360" cy="1447920"/>
          </a:xfrm>
          <a:custGeom>
            <a:avLst/>
            <a:gdLst>
              <a:gd name="textAreaLeft" fmla="*/ 0 w 990360"/>
              <a:gd name="textAreaRight" fmla="*/ 848880 w 990360"/>
              <a:gd name="textAreaTop" fmla="*/ 96552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gradFill rotWithShape="0">
            <a:gsLst>
              <a:gs pos="0">
                <a:srgbClr val="ffc000">
                  <a:alpha val="55294"/>
                </a:srgbClr>
              </a:gs>
              <a:gs pos="100000">
                <a:srgbClr val="e8eae9"/>
              </a:gs>
            </a:gsLst>
            <a:lin ang="8100000"/>
          </a:gradFill>
          <a:ln w="9360">
            <a:solidFill>
              <a:srgbClr val="ccccff"/>
            </a:solidFill>
            <a:miter/>
          </a:ln>
          <a:effectLst>
            <a:outerShdw dist="71785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4038480" y="1752480"/>
            <a:ext cx="472464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United States had a long tradition of staying out of European confli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Yet one third of Americans had been born in a foreign country and still identified with their homelan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0"/>
          <p:cNvSpPr/>
          <p:nvPr/>
        </p:nvSpPr>
        <p:spPr>
          <a:xfrm>
            <a:off x="1066680" y="2057400"/>
            <a:ext cx="7010640" cy="3505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e8eae9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36147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362320"/>
          <a:ext cx="6629400" cy="2971800"/>
        </p:xfrm>
        <a:graphic>
          <a:graphicData uri="http://schemas.openxmlformats.org/drawingml/2006/table">
            <a:tbl>
              <a:tblPr/>
              <a:tblGrid>
                <a:gridCol w="2830320"/>
                <a:gridCol w="3799080"/>
              </a:tblGrid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olation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18288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vored staying out of the w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8288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vention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18288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vored fighting on the Allies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s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8288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3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national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288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nted the United States to play a role for peace but not f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8288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36"/>
          <p:cNvSpPr/>
          <p:nvPr/>
        </p:nvSpPr>
        <p:spPr>
          <a:xfrm>
            <a:off x="304920" y="1219320"/>
            <a:ext cx="838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U.S. public opinion fell into three main group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533520" y="1600200"/>
            <a:ext cx="3124080" cy="3048120"/>
          </a:xfrm>
          <a:prstGeom prst="rect">
            <a:avLst/>
          </a:prstGeom>
          <a:gradFill rotWithShape="0">
            <a:gsLst>
              <a:gs pos="0">
                <a:srgbClr val="ffc000">
                  <a:alpha val="55294"/>
                </a:srgbClr>
              </a:gs>
              <a:gs pos="100000">
                <a:srgbClr val="e8eae9"/>
              </a:gs>
            </a:gsLst>
            <a:lin ang="13500000"/>
          </a:gradFill>
          <a:ln w="9360">
            <a:solidFill>
              <a:srgbClr val="ccccff"/>
            </a:solidFill>
            <a:miter/>
          </a:ln>
          <a:effectLst>
            <a:outerShdw dist="71785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AutoShape 8"/>
          <p:cNvSpPr/>
          <p:nvPr/>
        </p:nvSpPr>
        <p:spPr>
          <a:xfrm rot="5400000">
            <a:off x="2019240" y="4533840"/>
            <a:ext cx="990360" cy="1218960"/>
          </a:xfrm>
          <a:custGeom>
            <a:avLst/>
            <a:gdLst>
              <a:gd name="textAreaLeft" fmla="*/ 0 w 990360"/>
              <a:gd name="textAreaRight" fmla="*/ 848880 w 990360"/>
              <a:gd name="textAreaTop" fmla="*/ 81288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gradFill rotWithShape="0">
            <a:gsLst>
              <a:gs pos="0">
                <a:srgbClr val="ffc000">
                  <a:alpha val="55294"/>
                </a:srgbClr>
              </a:gs>
              <a:gs pos="100000">
                <a:srgbClr val="e8eae9"/>
              </a:gs>
            </a:gsLst>
            <a:lin ang="8100000"/>
          </a:gradFill>
          <a:ln w="9360">
            <a:solidFill>
              <a:srgbClr val="ccccff"/>
            </a:solidFill>
            <a:miter/>
          </a:ln>
          <a:effectLst>
            <a:outerShdw dist="71785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762120" y="1981080"/>
            <a:ext cx="289548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Early in the war, the British navy had set up a blockade of German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962520" y="1752480"/>
            <a:ext cx="480060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Britai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goal was to intercept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ontraban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o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3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defiance of international law, Britain also prevented noncontraband goods, such as food and gasoline, from reaching German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3581280" y="50292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Germany responded by trying to blockade Britai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"/>
          <p:cNvSpPr/>
          <p:nvPr/>
        </p:nvSpPr>
        <p:spPr>
          <a:xfrm>
            <a:off x="5334120" y="152388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German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U-boat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torpedoed ships bound for Britai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34120" y="3124080"/>
            <a:ext cx="327636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On May 7, 1915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 U-boat sank the British passenger ship </a:t>
            </a:r>
            <a:r>
              <a:rPr b="1" i="1" lang="en-US" sz="2200" spc="-1" strike="noStrike">
                <a:solidFill>
                  <a:srgbClr val="ff3300"/>
                </a:solidFill>
                <a:latin typeface="Verdana"/>
                <a:ea typeface="Arial"/>
              </a:rPr>
              <a:t>Lusitani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off the coast of Ireland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killing many America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8" descr="hsus_ch19_s1_Lusitania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237960" y="1590840"/>
            <a:ext cx="486756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762120" y="1143000"/>
            <a:ext cx="85341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mericans were angry about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Lusitania.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Germany failed to keep its promise to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not sink any more passenger ship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4800600" y="2585880"/>
            <a:ext cx="380988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3574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esident Wilson still wanted peace, but he</a:t>
            </a:r>
            <a:r>
              <a:rPr b="0" lang="en-US" sz="2200" spc="-1" strike="noStrike">
                <a:solidFill>
                  <a:srgbClr val="ccccff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began to prepare for the possibility of w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3574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16, Congress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expanded the army and authorized more warship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838080" y="2492280"/>
            <a:ext cx="3886200" cy="37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6"/>
          <p:cNvSpPr/>
          <p:nvPr/>
        </p:nvSpPr>
        <p:spPr>
          <a:xfrm flipH="1" rot="10800000">
            <a:off x="865800" y="1234800"/>
            <a:ext cx="7391160" cy="2346120"/>
          </a:xfrm>
          <a:prstGeom prst="upArrowCallout">
            <a:avLst>
              <a:gd name="adj1" fmla="val 32994"/>
              <a:gd name="adj2" fmla="val 30556"/>
              <a:gd name="adj3" fmla="val 24505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1066680" y="3659040"/>
            <a:ext cx="7010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27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Zimmermann no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was intercepted. In this telegram, Germany tried to forge an alliance with Mexico against the United St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7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Germany returned to a policy of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unrestricted submarine warfare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sinking any ship headed for Britai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219320" y="137160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wo events in 1917 led President Wilso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o ask Congress to declare war o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Central Pow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914400" y="2057400"/>
            <a:ext cx="7467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the causes of World War 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cribe the course and character of the w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lain why the United States entered the conflict on the side of the Alli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57200" y="1295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6"/>
          <p:cNvSpPr/>
          <p:nvPr/>
        </p:nvSpPr>
        <p:spPr>
          <a:xfrm flipH="1" rot="10800000">
            <a:off x="865800" y="1491840"/>
            <a:ext cx="7391160" cy="2622600"/>
          </a:xfrm>
          <a:prstGeom prst="upArrowCallout">
            <a:avLst>
              <a:gd name="adj1" fmla="val 29516"/>
              <a:gd name="adj2" fmla="val 27334"/>
              <a:gd name="adj3" fmla="val 24505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219320" y="17226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On April 2, 1917, Wilson asked Congress to </a:t>
            </a:r>
            <a:br>
              <a:rPr sz="2200"/>
            </a:b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declare war against Germany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aying,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world must be made safe for democracy.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219320" y="43894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ongress responded with a declaration of war on April 6, 1917, and the United States entered World War 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7200" y="114300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09480" y="1752480"/>
            <a:ext cx="815364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Alsace-Lorrain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French region lost to German states in 187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militarism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lorification of the milita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Francis Ferdinand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rchduke of Austria-Hungary who was assassinated in 191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William II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the German emper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Western Fron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−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battle front between the Allies and Central Powers in western Europe during World War 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457200" y="114300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609480" y="1731960"/>
            <a:ext cx="769644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asualt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killed, wounded, or missing soldi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ontraband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supplies captured from an enemy during warti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U-boa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erman submar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Lusitania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British passenger ship sunk by a German U-boat during World War 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Zimmermann not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 telegram in which the German foreign minister Zimmerman proposed an alliance with Mexico against the United St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1"/>
          <p:cNvSpPr/>
          <p:nvPr/>
        </p:nvSpPr>
        <p:spPr>
          <a:xfrm>
            <a:off x="1523880" y="1600200"/>
            <a:ext cx="6705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What caused World War I, and why did the United States enter the war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1523880" y="2819520"/>
            <a:ext cx="6629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14, nationalism, militarism, imperialism, and entangling alliances combined to drag Europe into a world wa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United States attempted to remain neutral but abandoned its long tradition of staying out of European confli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17" descr="qlogo"/>
          <p:cNvPicPr/>
          <p:nvPr/>
        </p:nvPicPr>
        <p:blipFill>
          <a:blip r:embed="rId1"/>
          <a:stretch/>
        </p:blipFill>
        <p:spPr>
          <a:xfrm>
            <a:off x="762120" y="175248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6"/>
          <p:cNvSpPr/>
          <p:nvPr/>
        </p:nvSpPr>
        <p:spPr>
          <a:xfrm>
            <a:off x="4114800" y="5486400"/>
            <a:ext cx="36576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7030"/>
              </a:gs>
              <a:gs pos="100000">
                <a:srgbClr val="d94401"/>
              </a:gs>
            </a:gsLst>
            <a:lin ang="5400000"/>
          </a:gra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AutoShape 24"/>
          <p:cNvSpPr/>
          <p:nvPr/>
        </p:nvSpPr>
        <p:spPr>
          <a:xfrm>
            <a:off x="3581280" y="4724280"/>
            <a:ext cx="354348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bd8d"/>
              </a:gs>
              <a:gs pos="100000">
                <a:srgbClr val="fe7030"/>
              </a:gs>
            </a:gsLst>
            <a:lin ang="5400000"/>
          </a:gradFill>
          <a:ln w="19080">
            <a:solidFill>
              <a:srgbClr val="fd4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3200400" y="3995640"/>
            <a:ext cx="312408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f2cc"/>
              </a:gs>
              <a:gs pos="100000">
                <a:srgbClr val="fe8e5c"/>
              </a:gs>
            </a:gsLst>
            <a:lin ang="5400000"/>
          </a:gradFill>
          <a:ln w="19080">
            <a:solidFill>
              <a:srgbClr val="fe8e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utoShape 22"/>
          <p:cNvSpPr/>
          <p:nvPr/>
        </p:nvSpPr>
        <p:spPr>
          <a:xfrm>
            <a:off x="2666880" y="3271680"/>
            <a:ext cx="259092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f7df"/>
              </a:gs>
              <a:gs pos="100000">
                <a:srgbClr val="fdbd8d"/>
              </a:gs>
            </a:gsLst>
            <a:lin ang="5400000"/>
          </a:gradFill>
          <a:ln w="19080">
            <a:solidFill>
              <a:srgbClr val="fea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685800" y="1295280"/>
            <a:ext cx="73152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14, five factors made Europe a powder keg ready to explo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21"/>
          <p:cNvSpPr/>
          <p:nvPr/>
        </p:nvSpPr>
        <p:spPr>
          <a:xfrm>
            <a:off x="1981080" y="2557440"/>
            <a:ext cx="25909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f7df"/>
              </a:gs>
              <a:gs pos="100000">
                <a:srgbClr val="f8e292"/>
              </a:gs>
            </a:gsLst>
            <a:lin ang="5400000"/>
          </a:gradFill>
          <a:ln w="9360">
            <a:solidFill>
              <a:srgbClr val="f9c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29"/>
          <p:cNvSpPr/>
          <p:nvPr/>
        </p:nvSpPr>
        <p:spPr>
          <a:xfrm>
            <a:off x="2438280" y="2514600"/>
            <a:ext cx="579132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National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Militar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16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Economic rivalr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spcBef>
                <a:spcPts val="16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mperial ambi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70000"/>
              </a:lnSpc>
              <a:spcBef>
                <a:spcPts val="19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egional ten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8"/>
          <p:cNvSpPr/>
          <p:nvPr/>
        </p:nvSpPr>
        <p:spPr>
          <a:xfrm>
            <a:off x="838080" y="2438280"/>
            <a:ext cx="7239240" cy="3657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8eae9"/>
              </a:gs>
              <a:gs pos="100000">
                <a:srgbClr val="e2c5ff"/>
              </a:gs>
            </a:gsLst>
            <a:lin ang="5400000"/>
          </a:grad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990720" y="2590920"/>
            <a:ext cx="701028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mong the powers of Europe, nationalism caus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a desire to avenge perceived insults and past loss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ome felt national identity centered around a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 single ethnic grou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and questioned the loyalty of ethnic minor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ocial Darwinists applied the idea of 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“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urvival of the fittest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to na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990720" y="12952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Nationalism, or devotion to one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country, caused tensions to ris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6"/>
          <p:cNvSpPr/>
          <p:nvPr/>
        </p:nvSpPr>
        <p:spPr>
          <a:xfrm flipH="1" rot="10800000">
            <a:off x="914400" y="1491840"/>
            <a:ext cx="7391520" cy="1692360"/>
          </a:xfrm>
          <a:prstGeom prst="upArrowCallout">
            <a:avLst>
              <a:gd name="adj1" fmla="val 45743"/>
              <a:gd name="adj2" fmla="val 42361"/>
              <a:gd name="adj3" fmla="val 24505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29"/>
          <p:cNvSpPr/>
          <p:nvPr/>
        </p:nvSpPr>
        <p:spPr>
          <a:xfrm>
            <a:off x="1262160" y="3352680"/>
            <a:ext cx="71625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Economic competition caus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a demand for colonies and military bas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in Africa, the Pacific islands, and Chi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266840" y="1533600"/>
            <a:ext cx="678168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Economic competition for trade and colonies increased nationalistic feeling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295280" y="4822920"/>
            <a:ext cx="678204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lliances provided</a:t>
            </a:r>
            <a:r>
              <a:rPr b="0" lang="en-US" sz="2200" spc="-1" strike="noStrike">
                <a:solidFill>
                  <a:srgbClr val="ccccff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a promise of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assista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that made some leaders reckless or overly aggressiv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9"/>
          <p:cNvSpPr/>
          <p:nvPr/>
        </p:nvSpPr>
        <p:spPr>
          <a:xfrm>
            <a:off x="5638680" y="3048120"/>
            <a:ext cx="34290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Militarism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ombined with nationalism, led t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n arms ra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685800" y="137160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Nations stockpiled new technology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cluding machine guns, mobile artillery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anks, submarines, and airplan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9" descr="HSUS_ch19_s1_MilitaryStrengthGraph"/>
          <p:cNvPicPr/>
          <p:nvPr/>
        </p:nvPicPr>
        <p:blipFill>
          <a:blip r:embed="rId1"/>
          <a:stretch/>
        </p:blipFill>
        <p:spPr>
          <a:xfrm>
            <a:off x="838080" y="2701800"/>
            <a:ext cx="4419720" cy="324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Mark Scacewater</cp:lastModifiedBy>
  <cp:lastPrinted>2008-05-21T18:42:16Z</cp:lastPrinted>
  <dcterms:modified xsi:type="dcterms:W3CDTF">2012-09-30T21:00:14Z</dcterms:modified>
  <cp:revision>164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